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3623A-9C03-4067-8E7D-993AEA5D2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4EAA2-8086-4132-9DFB-64CF31BA7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0182B-7CDD-41D8-9E5B-103BC4947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7532A-8DBE-4D8B-BAC9-2595B60F4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36143-E6F7-439A-91CD-D1592CE3A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5CEF3-EA3B-453D-9F03-7C63F7244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8090E-1CAC-4CC1-89C6-70A04DDA6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5B895-AC38-4FDC-A831-CAAF8E462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401BB-C579-40B4-8D15-45C90E339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A7488-1CBE-49A3-BAEA-519EB2F9A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B89DB-D0E9-4C35-8904-6E74EDA3E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B0160-CC9B-472A-9C79-4CD1B3C4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D79F-295D-47F4-A358-966A6D8F4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4FBD9-9A47-4D0F-B673-15CAF4896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AF4CE-E02E-4025-B603-B5ECA78D4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8F83A-104D-4E55-BC84-7F1F6469C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55E6F-4B16-4412-A19B-EC1F1F9F9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42916-E31D-473F-BB62-2DFD071AF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C8F39-178D-4E2D-AB7A-EB351BE3A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57861-7A39-4806-90ED-01839D70F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A6A62-16F0-4570-895F-6B22A62A9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902AC-757F-48B9-A6C4-966A9CE03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C753B-BA48-4944-82E5-2CF4F8D6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EA321-EF76-4269-AAE4-7E2480B52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62CEA-4F01-4957-8641-57DF6C6BC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41BA4-EBF0-4FC6-89B0-823DF609C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11709-B73E-450B-BBA1-70EDDABC2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76430-6849-4E28-8F05-2B9FD70B4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A38B56-B135-490C-999C-35A98A1B62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A35418-9BF2-4721-9236-311B63AC00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6FDBB-B66B-45AF-B077-AC78F84B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D760-CE0D-4C76-B26D-5C84B3E0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EFFD-46BB-4FE0-99EA-5C6AB5FD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8F8D-2D28-4A72-BED8-FFF6A297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C17D-86A7-4DD3-94E4-EF60CF554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1AE6-FEEE-4286-8A59-021ABECF7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7B2F6-A6AE-4759-A6E6-B4A857D1587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4EACF-5392-4F5D-BE04-76223379CD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5F006-B63D-493C-BE3B-014622E6B7D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C85F1-89C8-4339-AC2F-274D4B1E7B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A052B-99CF-4E42-A8A8-3BB3BABEC0D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034A1-1AFB-47AD-948E-7D414753BF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003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CONCLUSIONES</a:t>
            </a:r>
            <a:br>
              <a:rPr sz="4400"/>
            </a:br>
            <a:r>
              <a:rPr b="1" lang="es-ES" sz="4400" spc="-1" strike="noStrike">
                <a:solidFill>
                  <a:srgbClr val="000000"/>
                </a:solidFill>
                <a:latin typeface="Calibri"/>
              </a:rPr>
              <a:t>GENERALES</a:t>
            </a:r>
            <a:endParaRPr b="0" lang="en-US" sz="4400" spc="-1" strike="noStrike">
              <a:solidFill>
                <a:srgbClr val="000000"/>
              </a:solidFill>
              <a:latin typeface="Calibri"/>
            </a:endParaRPr>
          </a:p>
        </p:txBody>
      </p:sp>
      <p:sp>
        <p:nvSpPr>
          <p:cNvPr id="126" name="4 Título"/>
          <p:cNvSpPr/>
          <p:nvPr/>
        </p:nvSpPr>
        <p:spPr>
          <a:xfrm>
            <a:off x="609480" y="1347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SECRETARIA DE PLANEAC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59040" y="274320"/>
            <a:ext cx="5132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RECOMENDACIONES INFORME DE GESTION DE INFANCIA, ADOLESCENCIA Y JUVENTUD</a:t>
            </a:r>
            <a:endParaRPr b="0" lang="en-US" sz="2400" spc="-1" strike="noStrike">
              <a:solidFill>
                <a:srgbClr val="000000"/>
              </a:solidFill>
              <a:latin typeface="Calibri"/>
            </a:endParaRPr>
          </a:p>
        </p:txBody>
      </p:sp>
      <p:sp>
        <p:nvSpPr>
          <p:cNvPr id="128" name="Rectangle 1"/>
          <p:cNvSpPr/>
          <p:nvPr/>
        </p:nvSpPr>
        <p:spPr>
          <a:xfrm>
            <a:off x="0" y="1439640"/>
            <a:ext cx="8672400" cy="435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El rigor técnico asociado a la construcción de un “Plan de Mejoramiento” exige tener claridad sobre las situaciones actuales, los escenarios por alcanzar, los recursos disponibles para aplicar, las metas específicas, los tiempos involucrados y los responsables por los resultados esperados para con todo ello, darle contenido al término, “oportunidad del pla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Se señala la necesidad perentoria de estructurar sistemas de información confiables y con series de tiempo suficientes para leer tendencias, ante cuya ausencia, es en extremo riesgoso aventurar diagnósticos precisos que den cuenta de los problemas reales y sobre todo de su magnitud.</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La construcción de indicadores específicos sobre la infancia, niñez y adolescencia es un ejercicio que permite diagnosticar el estado de la garantía de derechos de manera periódica; sin embargo, buena parte de los indicadores corresponden al sector salud, el cual es uno de los sectores que presentan peor calidad en las estadísticas en nuestro país, pues a excepción de las estadísticas vitales, el DANE no es la entidad encargada de la construcción y validación de esta informació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Se plantea que, en cada uno de los sectores representativos del gasto público social, se deberán aplicar instrumentos de la planeación estratégica que permitan construir una agenda común para todos los actores de la sociedad civil y por supuesto, para los diferentes actores públicos que se expresan en un territorio y que casi siempre asumen rutas diferentes o por lo menos, poco convergentes</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129" name="Picture 5" descr=""/>
          <p:cNvPicPr/>
          <p:nvPr/>
        </p:nvPicPr>
        <p:blipFill>
          <a:blip r:embed="rId1"/>
          <a:srcRect l="17325" t="24041" r="19152" b="53282"/>
          <a:stretch/>
        </p:blipFill>
        <p:spPr>
          <a:xfrm>
            <a:off x="264960" y="5603760"/>
            <a:ext cx="573732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GENERAL</a:t>
            </a:r>
            <a:endParaRPr b="0" lang="en-US" sz="4400" spc="-1" strike="noStrike">
              <a:solidFill>
                <a:srgbClr val="000000"/>
              </a:solidFill>
              <a:latin typeface="Calibri"/>
            </a:endParaRPr>
          </a:p>
        </p:txBody>
      </p:sp>
      <p:sp>
        <p:nvSpPr>
          <p:cNvPr id="131" name="4 CuadroTexto"/>
          <p:cNvSpPr/>
          <p:nvPr/>
        </p:nvSpPr>
        <p:spPr>
          <a:xfrm>
            <a:off x="628560" y="3849840"/>
            <a:ext cx="7986960" cy="292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Plan Contiene 461 metas de las cuales 390 corresponden al plan Básico y 71 dependían de Recursos Contingen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40% de las metas fueron ejecutadas completamente. De éstas en la mitad (89 metas) presentaron ejecuciones superiores a las programad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9% de las metas del plan Básico y No fueron ejecutadas durante el cuatrien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82% de las metas del Plan Básico y 36% de las met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recursos contingentes Presentaron avances mayores al 50%.</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32" name=""/>
          <p:cNvGraphicFramePr/>
          <p:nvPr/>
        </p:nvGraphicFramePr>
        <p:xfrm>
          <a:off x="914400" y="1417680"/>
          <a:ext cx="7424640" cy="2432160"/>
        </p:xfrm>
        <a:graphic>
          <a:graphicData uri="http://schemas.openxmlformats.org/drawingml/2006/table">
            <a:tbl>
              <a:tblPr/>
              <a:tblGrid>
                <a:gridCol w="2498760"/>
                <a:gridCol w="820800"/>
                <a:gridCol w="822240"/>
                <a:gridCol w="820800"/>
                <a:gridCol w="820800"/>
                <a:gridCol w="820440"/>
                <a:gridCol w="820800"/>
              </a:tblGrid>
              <a:tr h="435960">
                <a:tc row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Estado de las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Plan Básico</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Recursos Contingente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Total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Cumpli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3</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8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superior a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 entre 50 y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8%</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ón inferior a 5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7</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5</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No ejecuta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5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Total Metas</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9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6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r>
              <a:tr h="435960">
                <a:tc gridSpan="7">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Fuente: Elaboración de la secretaría de Planeación con base en información reportada por las secretarías.</a:t>
                      </a:r>
                      <a:endParaRPr b="0" lang="en-US" sz="1400" spc="-1" strike="noStrike">
                        <a:solidFill>
                          <a:srgbClr val="000000"/>
                        </a:solidFill>
                        <a:latin typeface="Arial"/>
                      </a:endParaRPr>
                    </a:p>
                  </a:txBody>
                  <a:tcPr anchor="b" marL="9360" marR="93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4" name=""/>
          <p:cNvGraphicFramePr/>
          <p:nvPr/>
        </p:nvGraphicFramePr>
        <p:xfrm>
          <a:off x="419040" y="1417680"/>
          <a:ext cx="8328240" cy="4878360"/>
        </p:xfrm>
        <a:graphic>
          <a:graphicData uri="http://schemas.openxmlformats.org/drawingml/2006/table">
            <a:tbl>
              <a:tblPr/>
              <a:tblGrid>
                <a:gridCol w="3440160"/>
                <a:gridCol w="814320"/>
                <a:gridCol w="814320"/>
                <a:gridCol w="816120"/>
                <a:gridCol w="814320"/>
                <a:gridCol w="814320"/>
                <a:gridCol w="814680"/>
              </a:tblGrid>
              <a:tr h="5097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DEL PLAN BÁSICO</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Cumpli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superior a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entre 50 y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ón inferior a 5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No Ejecuta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3423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gridSpan="7">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7200" marR="720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6" name=""/>
          <p:cNvGraphicFramePr/>
          <p:nvPr/>
        </p:nvGraphicFramePr>
        <p:xfrm>
          <a:off x="374760" y="1233360"/>
          <a:ext cx="8383320" cy="5211720"/>
        </p:xfrm>
        <a:graphic>
          <a:graphicData uri="http://schemas.openxmlformats.org/drawingml/2006/table">
            <a:tbl>
              <a:tblPr/>
              <a:tblGrid>
                <a:gridCol w="3289320"/>
                <a:gridCol w="779400"/>
                <a:gridCol w="777960"/>
                <a:gridCol w="990360"/>
                <a:gridCol w="989280"/>
                <a:gridCol w="777600"/>
                <a:gridCol w="779400"/>
              </a:tblGrid>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6840" marR="6840">
                    <a:lnL>
                      <a:noFill/>
                    </a:lnL>
                    <a:lnR w="2880">
                      <a:solidFill>
                        <a:srgbClr val="000000"/>
                      </a:solidFill>
                    </a:lnR>
                    <a:lnT>
                      <a:noFill/>
                    </a:lnT>
                    <a:lnB w="2880">
                      <a:solidFill>
                        <a:srgbClr val="000000"/>
                      </a:solidFill>
                    </a:lnB>
                    <a:no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PLAN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RECURSOS CONTINGENTE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Promedio E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33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NA</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42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gridSpan="7">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6840" marR="68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19360" y="274320"/>
            <a:ext cx="5310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ASPECTOS GENERALES</a:t>
            </a:r>
            <a:endParaRPr b="0" lang="en-US" sz="4400" spc="-1" strike="noStrike">
              <a:solidFill>
                <a:srgbClr val="000000"/>
              </a:solidFill>
              <a:latin typeface="Calibri"/>
            </a:endParaRPr>
          </a:p>
        </p:txBody>
      </p:sp>
      <p:sp>
        <p:nvSpPr>
          <p:cNvPr id="138" name="2 CuadroTexto"/>
          <p:cNvSpPr/>
          <p:nvPr/>
        </p:nvSpPr>
        <p:spPr>
          <a:xfrm>
            <a:off x="561960" y="1417680"/>
            <a:ext cx="79646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ayores ejecuciones fueron Convivencia Y Seguridad Ciudadana, Infraestructura Vial y de Transporte, Desarrollo Social Y Comunitario y Gobierno, Planeación Y Desarrollo Institucional, los cuales presentaron ejecuciones mayores al 50% en todas sus met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enor proporción de metas con ejecución superior a 50% fueron Vivienda, Minero, Agua Potable y Saneamiento Básico y Ciencia Y Tecnología, con proporciones de entre 50 y 60% de sus met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fue ejecutada la tercera parte de las metas que dependían de recursos continge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a ejecución Promedio de las metas del Plan Básico fue cercana al 80%, la de las metas de recursos contingentes fue de 36% y el promedio de ejecución de as 461 metas fue del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40"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8:40:28Z</dcterms:modified>
  <cp:revision>19</cp:revision>
  <dc:subject/>
  <dc:title>Slide 1</dc:title>
</cp:coreProperties>
</file>